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C47F-BAD2-43B8-BD4A-AE2FEC0B2887}" type="slidenum">
              <a:rPr b="1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Calibri"/>
              </a:rPr>
              <a:t>Uusi strategia 2020 – Suuntana aidosti avarakatseinen Suo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Yksi tulevaisuuden menestystekijöistä on ihmisen kyky avarakatseiseen elämää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Laajojen kokonaisuuksien ymmärtämist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Avoimuutta uudel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Erilaisuuden näkemistä rikkaut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Omien ennakkoluulojen tiedostam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almiutta olla vuorovaikutuksessa erilaisten ihmisten kanssa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Dian numeron paikkamerkki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6DF6-A165-42EE-BDA0-2A5E8DB328E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1014-1B32-4450-8671-78E2BB320CB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5840" y="7588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96760" y="4722840"/>
            <a:ext cx="50040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Ohjelman määrällisiä tavoitteit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Comenius: 1/30 koululaisista osallistuu toiminta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Erasmus: 3 miljoonaa opiskelijaa vuoteen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Leonardo: kaksinkertaistetaan liikkuvuus: </a:t>
            </a:r>
            <a:br>
              <a:rPr sz="1200"/>
            </a:b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80 000 hlöä/vuo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Grundtvig: 2 000 aikuisopiskelijaa liikku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12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39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12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39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69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12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69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1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39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39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12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39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12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9" descr="PPpalkki_xxxrgb"/>
          <p:cNvPicPr/>
          <p:nvPr/>
        </p:nvPicPr>
        <p:blipFill>
          <a:blip r:embed="rId2"/>
          <a:stretch/>
        </p:blipFill>
        <p:spPr>
          <a:xfrm>
            <a:off x="-1440" y="0"/>
            <a:ext cx="9145440" cy="812880"/>
          </a:xfrm>
          <a:prstGeom prst="rect">
            <a:avLst/>
          </a:prstGeom>
          <a:ln w="0">
            <a:noFill/>
          </a:ln>
        </p:spPr>
      </p:pic>
      <p:sp>
        <p:nvSpPr>
          <p:cNvPr id="3" name="Rectangle 20"/>
          <p:cNvSpPr/>
          <p:nvPr/>
        </p:nvSpPr>
        <p:spPr>
          <a:xfrm>
            <a:off x="7310160" y="63817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/ 20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2" descr=""/>
          <p:cNvPicPr/>
          <p:nvPr/>
        </p:nvPicPr>
        <p:blipFill>
          <a:blip r:embed="rId3"/>
          <a:stretch/>
        </p:blipFill>
        <p:spPr>
          <a:xfrm>
            <a:off x="237960" y="6256440"/>
            <a:ext cx="331920" cy="398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R:\viestintä ja tietopalvelut\viestintä ja markkinointi\logot\EU-ohjelmien logot\LLP\Uusi_logo_2012\EU_flag_LLP_FI.bmp"/>
          <p:cNvPicPr/>
          <p:nvPr/>
        </p:nvPicPr>
        <p:blipFill>
          <a:blip r:embed="rId4"/>
          <a:stretch/>
        </p:blipFill>
        <p:spPr>
          <a:xfrm>
            <a:off x="755640" y="6281640"/>
            <a:ext cx="1079640" cy="37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imo.fi/ohjelmat/comenius/valmistelevat_vierailut_ja_kontaktiseminaari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c.europa.eu/education/trainingdatabase/search.cfm" TargetMode="External"/><Relationship Id="rId2" Type="http://schemas.openxmlformats.org/officeDocument/2006/relationships/hyperlink" Target="http://ec.europa.eu/education/trainingdatabase/search.cfm" TargetMode="External"/><Relationship Id="rId3" Type="http://schemas.openxmlformats.org/officeDocument/2006/relationships/hyperlink" Target="http://www.cimo.fi/ohjelmat/comenius/kokemuksia" TargetMode="External"/><Relationship Id="rId4" Type="http://schemas.openxmlformats.org/officeDocument/2006/relationships/hyperlink" Target="http://www.cimo.fi/ohjelmat/comenius/kokemuksia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tudyvisits.cedefop.europa.eu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imo.fi/ohjelmat/poikittaisohjelma/opintovierailut/opintovierailun_jarjestaminen_suomessa/hakijalle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imo.fi/comenius" TargetMode="External"/><Relationship Id="rId2" Type="http://schemas.openxmlformats.org/officeDocument/2006/relationships/hyperlink" Target="http://www.cimo.fi/comenius" TargetMode="External"/><Relationship Id="rId3" Type="http://schemas.openxmlformats.org/officeDocument/2006/relationships/hyperlink" Target="http://www.cimo.fi/opintovierailut" TargetMode="External"/><Relationship Id="rId4" Type="http://schemas.openxmlformats.org/officeDocument/2006/relationships/hyperlink" Target="http://www.cimo.fi/opintovierailut" TargetMode="External"/><Relationship Id="rId5" Type="http://schemas.openxmlformats.org/officeDocument/2006/relationships/hyperlink" Target="http://www.cimo.fi/nordplus" TargetMode="External"/><Relationship Id="rId6" Type="http://schemas.openxmlformats.org/officeDocument/2006/relationships/hyperlink" Target="http://www.cimo.fi/nordplus" TargetMode="External"/><Relationship Id="rId7" Type="http://schemas.openxmlformats.org/officeDocument/2006/relationships/hyperlink" Target="http://www.cimo.fi/eurooppakoulussa" TargetMode="External"/><Relationship Id="rId8" Type="http://schemas.openxmlformats.org/officeDocument/2006/relationships/hyperlink" Target="http://www.cimo.fi/eurooppakoulussa" TargetMode="External"/><Relationship Id="rId9" Type="http://schemas.openxmlformats.org/officeDocument/2006/relationships/hyperlink" Target="mailto:comenius-info@cimo.fi" TargetMode="External"/><Relationship Id="rId10" Type="http://schemas.openxmlformats.org/officeDocument/2006/relationships/hyperlink" Target="mailto:etunimi.sukunimi@cimo.fi" TargetMode="External"/><Relationship Id="rId11" Type="http://schemas.openxmlformats.org/officeDocument/2006/relationships/hyperlink" Target="http://puhelinluettelo.cimo.fi/puhlu/fi/web/?name=&amp;group=15&amp;type=name&amp;resultmode=2" TargetMode="External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imo.fi/instancedata/prime_product_julkaisu/cimo/embeds/cimowwwstructure/23264_oph_KV_laatukortit_fi_LOWRESLOPUL.pdf" TargetMode="External"/><Relationship Id="rId2" Type="http://schemas.openxmlformats.org/officeDocument/2006/relationships/hyperlink" Target="http://www.cimo.fi/instancedata/prime_product_julkaisu/cimo/embeds/cimowwwstructure/15496_osaanko_uskallanko.pd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imo.fi/comenius" TargetMode="External"/><Relationship Id="rId2" Type="http://schemas.openxmlformats.org/officeDocument/2006/relationships/hyperlink" Target="http://www.cimo.fi/erasmus" TargetMode="External"/><Relationship Id="rId3" Type="http://schemas.openxmlformats.org/officeDocument/2006/relationships/hyperlink" Target="http://www.cimo.fi/leonardo" TargetMode="External"/><Relationship Id="rId4" Type="http://schemas.openxmlformats.org/officeDocument/2006/relationships/hyperlink" Target="http://www.cimo.fi/grundtvig" TargetMode="External"/><Relationship Id="rId5" Type="http://schemas.openxmlformats.org/officeDocument/2006/relationships/hyperlink" Target="http://www.cimo/opintovierailut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education/lifelong-learning-programme/doc1208_en.ht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07840" y="1184040"/>
            <a:ext cx="7057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Comen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2.10.2012/Koulu goes Glo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Sirkka Säikkäl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cimo.fi/instancedata/prime_product_julkaisu/cimo/embeds/cimowwwstructure/dd2e5b28234778daa2375e7ba31d61e38756b659.jpg"/>
          <p:cNvPicPr/>
          <p:nvPr/>
        </p:nvPicPr>
        <p:blipFill>
          <a:blip r:embed="rId1"/>
          <a:stretch/>
        </p:blipFill>
        <p:spPr>
          <a:xfrm>
            <a:off x="1147680" y="2781360"/>
            <a:ext cx="6720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Comenius yksilöllinen</a:t>
            </a: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oppilasliikkuvuus (IP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3-10kk oppilasvaih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Comenius koulujen yhteistyöhankkeissa mukana oleville/olleille koulu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ppilaat väh. 14 vuotta vaihdon alkae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suvat perheiss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12-13 mukana: NL, BE, BG, ES, SI, IT, AT, GR, HR, LV, LI, LT, LU, MT, NO, PT, PL, FR, RO, SE, FI, SK, SL, CH, DK, CZ, TR, HU, 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uki: hallintokulut 150€/oppilas, kielivalmennus 120€/oppilas, matkat 100 %, kk-apuraha 89-249 €/kk, isäntäkoululle 500€/I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Yhteinen eurooppalainen vakuutus oppilailla &amp; koului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CIMO kouluttaa lähtevät, tulevat, yhteysopettajat/mento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ähettävä koulu hakee – hakemus oman maan kansalliselle toimistolle   -   hakuaika päättyy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3.12.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Comenius Regio hankk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lueiden välistä yhteistyötä koulutuksen sektori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aksi maata – joista toinen on koordino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opimus kahdelle vuodelle (1.8.201X-31.7.201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uki 2013: matka-, oleskelu-, hankekulut, henkilöstökul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iikkuvuustuki kuten monenvälisissä hankkei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hankekulut max. 25 000 euroa; korvaus 75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ukelpoiset tahot: kunnat, kuntayhtymät ja AVIT/ELY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isäksi aina mukana ainakin yksi koulu sekä alueen muu toimija, esim. kirjasto, nuorisotoimi, mus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Yhteisesti määritelty teema: esim. koulutuksen ja opetuksen organisointi, koulun ja ympäröivän yhteisön yhteistyö, koulutuksen keskeiset kehittämistarpeet j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11 vuosi : 220 000 € - 6 hanke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emus jokaisen maan kansalliselle toimisto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uaika päättyy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21.2.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Comenius valmistavat vierail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nkkeen valmistelua v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Yksilöllinen vierailu tai eurooppalainen kontaktisemina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nnen hankehakemuksen jättäm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puraha: matkat, kulukorvaus/seminaarimak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kuajat 2012: 15.5., 15.9. ja 15.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kuajat 2013: 15.5., 13.9. ja 15.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imo.fi/ohjelmat/comenius/valmistelevat_vierailut_ja_kontaktiseminaari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Comenius apulaisopettajaharjoittelu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ähtevät apulaisopettajat ja vastaanottavat kou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ohderyhmä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pulaisopettajaksi voi hakea opettajaksi opiskeleva tai vastavalmistunut opett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pulaisopettaja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voivat hakea esi- tai perusasteen oppilaitokset, lukiot ja ammatilliset oppilaitoks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uki 13-45 vk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pulaisopettajalle: kuukausiapuraha, matkat, kielivalmen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ouluille: apulaisopetta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oulutus apulaisopettajille ja vastaanottaville koulu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v 2012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n. 50 apurahaa lähteville apulaisopettaji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n. 50 apulaisopettajaa Suome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uaika lukuvuodelle 2012-13 päättyy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31.1.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8377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Comenius opetushenkilöstön täydennyskoulutusapura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820872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1-6-viikkoa kestävä täydennyskoulutus toisessa ohjelmaan osallistuvassa maa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ohderyhmä: esi- ja peruskoulun, lukion ja ammatillisen oppilaitoksen opettajat, rehtorit/johtajat, opinto-ohjaajat ja muu opetushenkilöstö sekä opettajankoulutuslaitoksen kouluttaj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ursseja </a:t>
            </a: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c.europa.eu/education/trainingdatabase/search.c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i job shadowing (mukaan kutsu ja päiväkohtainen ohjelm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11 vuosi: 685 000 € - 336 apurahaa – 68% hakijo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uoden 2013 haut päättyvä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16.1.2013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(koulutus alkaen 1.5.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30.4.2013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(koulutus alkaen 1.9.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17.9.2013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(koulutus alkaen 1.1.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Koulutuksen tulee alkaa viimeistään 30.4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ue kokemuksia </a:t>
            </a: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imo.fi/ohjelmat/comenius/kokemuksia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838080"/>
            <a:ext cx="87138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Opintovierailut koulutuksen asiantuntijo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Järjestettyjä opintovierailuja yleissivistävän ja ammatill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oulutuksen asiantuntijoi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Yleissivistävän koulutuksen  kohderyhmä: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ehtorit, koulunjohtajat, harjoittelukoulujen opettajat, apulaisrehtorit sekä  kuntien, läänien ja valtakunnallisen tason hallintohenkilöt kuten ktj:t ja sivistystoimentarkastajat, OPH:n ja OPM:n virkamie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Teemat: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esim. koulutusjärjestelmät, ICT ja koulutus, opettajuus, koulunjohto, erityisoppilaiden integraatio, tasa-arvo, ohjaustoiminta j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Kesto: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3-5 päivä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distää tiedonvaihtoa ja keskustelua eri maiden koulutuksesta ja sen kehittämisest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Hakuajat 2012: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30.3.2012 ja 12.10.20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puraha: n. 1200-1400 €,  kattaa matkat ja oleskel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ierailuluettelo: </a:t>
            </a: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udyvisits.cedefop.europa.eu/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Opintovierailun järjestäminen Suomes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11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ntovierailut-ohjelmaan voi osallistua myös järjestämällä opintovierailun omassa oppilaitoksessa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ärjestäjinä voivat toimia esim. opetusalan viranomaiset, koulut, oppilaitokset, järjestöt, liitot ja yrityk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ärjestäjien haku päättyy 8.10.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CIMO valitsee vierailujen järjestäjät sekä tukee, ohjaa ja kouluttaa heitä vierailujen toteutuks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imo.fi/ohjelmat/poikittaisohjelma/opintovierailut/opintovierailun_jarjestaminen_suomessa/hakijalle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55640" y="907560"/>
            <a:ext cx="43196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Hakuajat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68360" y="907920"/>
          <a:ext cx="3809880" cy="52358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35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NIUS-OHJELM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kuaika päättyy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n oppilaitoksen väliset hankkee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hden oppilaitoksen väliset hankkee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-hankkee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2.20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ksilöllinen oppilasliikkuvuu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2.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mistelevat vierail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5.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.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1.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äydennyskoulutus-apurah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4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9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ulaisopettajan vastaanottamine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1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ulaisopettajaharjoittelu opettajaksi opiskelevil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1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skitetyt hankkeet: Monenväliset hankkeet, verkostot ja täydentävät toime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1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572000" y="1700280"/>
          <a:ext cx="3809880" cy="442260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933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P POIKITTAISOHJEL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tovierail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3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0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PLUS-OHJELM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plus Junior valmisteleva vierailu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.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plus Junio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plus Horisont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plus Kieli ja kulttuuri ohjelm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.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Lisätietoa CIMO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3516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imo.fi/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menius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imo.fi/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pintovierailut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cimo.fi/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nordplus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cimo.fi/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eurooppakoulussa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Comenius-palvelunumero: 0295 338 6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ähköposti: 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omenius-info@cimo.fi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tai 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etunimi.sukunimi@cimo.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 u="sng">
                <a:solidFill>
                  <a:srgbClr val="000000"/>
                </a:solidFill>
                <a:uFillTx/>
                <a:latin typeface="Arial"/>
              </a:rPr>
              <a:t>Yhteyshenkilöt CIMOs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Comenius-hankkeet: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Leena Högdahl, Nina Rekola, Tiina Kar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Comenius Regio: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Sirkka Säikkälä, Leena Högdah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Comenius-täydennyskoulutusapurahat: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Sirkka Säikkälä, Anna Mietti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Comenius- apulaisopettajaharjoittelu: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Ulla Härm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Nordplus, Finland-US Young Ambassadors' Program :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Nina Esk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Opintovierailut, Koulu Euroopassa – Eurooppa koulussa –ohjelma: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Anni Leht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puhelinluettelo.cimo.fi/puhlu/fi/web/?name=&amp;group=15&amp;type=name&amp;resultmode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Oppai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2803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sainvälisen toiminnan laatusuosi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imo.fi/instancedata/prime_product_julkaisu/cimo/embeds/cimowwwstructure/23264_oph_KV_laatukortit_fi_LOWRESLOPUL.pd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aanko? Uskallanko? - Tottaka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imo.fi/instancedata/prime_product_julkaisu/cimo/embeds/cimowwwstructure/15496_osaanko_uskallanko.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uccess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ec.europa.eu/dgs/education_culture/publ/pdf/comenius/success-stories_en.pd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 creates opportunities - European success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http://ec.europa.eu/dgs/education_culture/publ/pdf/comenius/mobility_en.pdf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ds’ Corner: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ttp://europa.eu/kids-corner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aikki EU-julkaisut yhdestä osoitteesta http://bookshop.europa.eu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enius in figures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ttp://ec.europa.eu/education/comenius/doc/figures_en.pd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nsainvälisen liikkuvuuden ja yhteistyön keskus C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554364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erustettiin vuonna 199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oimii opetus- ja kulttuuriministeriön hallinnonalalla, ministeriön alaisena itsenäisenä virast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erustehtävä on edistää suomalaisen yhteiskunnan kansainvälistymist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Ellipsi 4"/>
          <p:cNvGrpSpPr/>
          <p:nvPr/>
        </p:nvGrpSpPr>
        <p:grpSpPr>
          <a:xfrm>
            <a:off x="5546880" y="1736640"/>
            <a:ext cx="3450960" cy="2444760"/>
            <a:chOff x="5546880" y="1736640"/>
            <a:chExt cx="3450960" cy="2444760"/>
          </a:xfrm>
        </p:grpSpPr>
        <p:pic>
          <p:nvPicPr>
            <p:cNvPr id="54" name="Ellipsi 4" descr=""/>
            <p:cNvPicPr/>
            <p:nvPr/>
          </p:nvPicPr>
          <p:blipFill>
            <a:blip r:embed="rId1"/>
            <a:stretch/>
          </p:blipFill>
          <p:spPr>
            <a:xfrm>
              <a:off x="5546880" y="1736640"/>
              <a:ext cx="345096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075360" y="2120760"/>
              <a:ext cx="2394000" cy="16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2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i-FI" sz="2800" spc="-1" strike="noStrike">
                  <a:solidFill>
                    <a:srgbClr val="000000"/>
                  </a:solidFill>
                  <a:latin typeface="Arial Narrow"/>
                </a:rPr>
                <a:t>CIMOn unelma on aidosti avarakatseinen Suomi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Ellipsi 5"/>
          <p:cNvGrpSpPr/>
          <p:nvPr/>
        </p:nvGrpSpPr>
        <p:grpSpPr>
          <a:xfrm>
            <a:off x="4896000" y="3968640"/>
            <a:ext cx="3382920" cy="2517840"/>
            <a:chOff x="4896000" y="3968640"/>
            <a:chExt cx="3382920" cy="2517840"/>
          </a:xfrm>
        </p:grpSpPr>
        <p:pic>
          <p:nvPicPr>
            <p:cNvPr id="57" name="Ellipsi 5" descr=""/>
            <p:cNvPicPr/>
            <p:nvPr/>
          </p:nvPicPr>
          <p:blipFill>
            <a:blip r:embed="rId2"/>
            <a:stretch/>
          </p:blipFill>
          <p:spPr>
            <a:xfrm>
              <a:off x="4896000" y="3968640"/>
              <a:ext cx="338292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416560" y="4363920"/>
              <a:ext cx="2343240" cy="17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2800" spc="-1" strike="noStrike">
                  <a:solidFill>
                    <a:srgbClr val="000000"/>
                  </a:solidFill>
                  <a:latin typeface="Arial Narrow"/>
                </a:rPr>
                <a:t>CIMO on rohkea, rikastava ja reilu kumppani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Tiedo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Comenius-sähköpostili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stalla tiedotetaan Comenius ja Nordplus Junior-ohjelmi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ittyvistä asioista sekä julkaistaan ulkomaisten koulu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rtnerinhakuilmoituksia. Myös muita koulu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nsainvälistymiseen liittyviä viestejä lähetetään list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staan liitytään täyttämällä lomake osoitteessa https://lists.cimo.fi/mailman/listinfo/comeni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Verkkotiedotus 2012, joka kk 3. tiis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18.9. 15-16, ti 16.10. 15-16, ti 20.11. 15-16, ti 18.12. 15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ttp://www.cimo.fi/ohjelmat/comenius/osallistujalle/tapahtumat/101/1/verkkotiedotus_2012_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Kuva1"/>
          <p:cNvPicPr/>
          <p:nvPr/>
        </p:nvPicPr>
        <p:blipFill>
          <a:blip r:embed="rId1"/>
          <a:stretch/>
        </p:blipFill>
        <p:spPr>
          <a:xfrm>
            <a:off x="687240" y="2592360"/>
            <a:ext cx="3814920" cy="202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468360" y="1052640"/>
          <a:ext cx="8280360" cy="4892400"/>
        </p:xfrm>
        <a:graphic>
          <a:graphicData uri="http://schemas.openxmlformats.org/drawingml/2006/table">
            <a:tbl>
              <a:tblPr/>
              <a:tblGrid>
                <a:gridCol w="2144520"/>
                <a:gridCol w="1935360"/>
                <a:gridCol w="2387520"/>
                <a:gridCol w="181296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INIKÄISEN OPPIMISEN OHJELMA 2007-201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eni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uluopet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. 15 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asm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rkea-asteen koulutus</a:t>
                      </a:r>
                      <a:br>
                        <a:rPr sz="1600"/>
                      </a:b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. </a:t>
                      </a:r>
                      <a:r>
                        <a:rPr b="0" i="1" lang="fi-F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onardo da Vinci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matillinen 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us-, jatko- ja täydennyskoulut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. 25 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undtvig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kuiskoulut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. 4 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129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ikittaisohjelmat </a:t>
                      </a: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. 6 %)</a:t>
                      </a: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) elinikäistä oppimista koskeva poliittinen yhteistyö 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) kieltenoppimisen edistäminen 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) tieto- ja viestintätekniikan edistäminen 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) tulosten levittäminen ja hyödyntämin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9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an Monnet -ohjelma </a:t>
                      </a: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. 2 %)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) Jean Monnet -toimi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) European Institutions: toiminta-avustukset Euroopan yhdentymistä käsitteleville laitoksille 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)  European Associations: toiminta-avustukset muille yleissivistävän ja ammatillisen koulutuksen aloilla toim. euroopp. laitoksille ja yhdistyksil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LLP on integroitu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ohje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hjelma yhdistää yleissivistävän koulutuksen ja ammatillisen koulutuksen ohjel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ljä sektoriohjelma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enius;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imo.fi/comeni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rasmus;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mo.fi/erasm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onardo da Vinci;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imo.fi/leonard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undtvig;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imo.fi/grundtvi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ikittaisohjelma: politiikkayhteistyö, kielten oppiminen, tietotekniikka, levitystoiminta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cimo/opintovierail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an Monnet –ohjelma (integraatiota tukevat hankkeet, toimintatuki neljälle eurooppalaiselle laitoksel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U:n Elinikäisen oppimisen ohjelma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2781000"/>
            <a:ext cx="777240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hjelmakausi  2007 – 2013 ( 7 vuot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djetti 6,9 miljardia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ikkuvuus korostu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n jäsenvaltioissa (27) n. 500 milj. kansala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hjelmaan osallistuu 31 ma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li 50 eri kieltä, joista 23 yhteisön virallista kiel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LLP-ohjelmaan osallistuvat m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nkomaat, Belgia, Espanja, Irlanti, Italia, Itävalta, Islanti, Kreikka,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roatia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ypros, Latvia, Liechtenstein, Liettua, Luxemburg, Malta, Norja, Portugali, Puola, Ranska, Ruotsi, Saksa, Slovakia, Slovenia, Suomi,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veitsi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ska, Tsekki, Turkki, Unkari, Viro ja Yhdistynyt kuningasku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imistojen yhteystiedot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ducation/lifelong-learning-programme/doc1208_en.h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Comenius-ohje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ohderyhmä: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oppilaitokset esikouluista toisen asteen oppilaitoksiin, kouluopetuksesta vastaavat viranomaiset sekä mm. korkea-asteen oppilaitok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Tavo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uttaa nuoria ja opetushenkilöstöä ymmärtämään Euroopan kulttuurien ja kielten monimuotoisuutta  sekä näiden ar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taa nuoria saavuttamaan henkilökohtaisen kehittymisen, työllistymisen ja Euroopan aktiivisen kansalaisuuden edellyttämät perustiedot ja taid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Suomen budjetti vuonna 2012 n. 4 milj.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837720"/>
            <a:ext cx="842472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Comenius monen oppilaitoksen väliset hankkeet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ppilaskeskeiset – kehittämiskeskeiset hankk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Yhteinen teema = yhteinen hanke = yhteinen hakemu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äh. 3 maata/koulua, joista yksi on hanketta koordino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 vuotta (1.8.201X-31.7.201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uki kahdelle vuodelle (2011)  - 80 %+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6 000 € (väh. 4 liikkuja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10 000 € (väh. 8 liikkuja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14 000 € (väh. 12 liikkuja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 000 € (väh. 24 liikkuja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Tuki sisältää hanke- ja liikkuvuustu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iikkuvuusmuodo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rojektikokous, opettajavaihto, rehtorivierailu, opettajan työpaikkaharjoitte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11 vuosi: 2 294 000 € - 128 hanke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emus jokaisen maan kansalliselle toimisto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uaika päättyy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21.2.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748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Comenius kahden oppilaitoksen väliset hankkeet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ielipainotteiset hankk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Yhteinen teema, yhteinen hanke, ”yhteinen hakemu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aksi maata/koulua – joista toinen on koordinoiva kou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opimus kahdelle vuodelle (1.8.201X-31.7.201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uki kahdelle vuodelle 80 %+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14 000 € (väh. 10 oppilasta+2 opettaja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 000 € (väh. 20 oppilasta+4 opettaja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Tuki sisältää hanke- ja liikkuvuust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iikkuvuusmuodo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rojektikokous, oppilasvaihto (10pv) - oppilaat väh. 12 vuot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11 vuosi: 358 000 € -  20 hanke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emus jokaisen maan kansalliselle toimisto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uaika päättyy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21.2.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2:13:41Z</dcterms:created>
  <dc:creator>KIR NAUSKIS</dc:creator>
  <dc:description/>
  <dc:language>en-US</dc:language>
  <cp:lastModifiedBy>temppi</cp:lastModifiedBy>
  <cp:lastPrinted>2012-01-11T09:07:46Z</cp:lastPrinted>
  <dcterms:modified xsi:type="dcterms:W3CDTF">2012-10-01T11:56:21Z</dcterms:modified>
  <cp:revision>572</cp:revision>
  <dc:subject/>
  <dc:title>PowerPoint Presentation</dc:title>
</cp:coreProperties>
</file>