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990F-0FFB-415D-9798-21F42CBA45C3}" type="slidenum">
              <a:rPr b="1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Calibri"/>
              </a:rPr>
              <a:t>Uusi strategia 2020 – Suuntana aidosti avarakatseinen Suo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Yksi tulevaisuuden menestystekijöistä on ihmisen kyky avarakatseiseen elämää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aajojen kokonaisuuksien ymmärtämis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oimuutta uude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ilaisuuden näkemistä rikkaut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mien ennakkoluulojen tiedostam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almiutta olla vuorovaikutuksessa erilaisten ihmisten kanssa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ian numeron paikkamerkki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771-C729-4078-BF21-D285605A98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ABF0-6C03-4DE1-A024-13D856499C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6760" y="4722840"/>
            <a:ext cx="5004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hjelman määrällisiä tavoitte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omenius: 1/30 koululaisista osallistuu toiminta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rasmus: 3 miljoonaa opiskelijaa vuote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Leonardo: kaksinkertaistetaan liikkuvuus: 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80 000 hlöä/vuo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Grundtvig: 2 000 aikuisopiskelijaa liikku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69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69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PPpalkki_xxxrgb"/>
          <p:cNvPicPr/>
          <p:nvPr/>
        </p:nvPicPr>
        <p:blipFill>
          <a:blip r:embed="rId2"/>
          <a:stretch/>
        </p:blipFill>
        <p:spPr>
          <a:xfrm>
            <a:off x="-1440" y="0"/>
            <a:ext cx="9145440" cy="8128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7310160" y="6381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/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"/>
          <p:cNvPicPr/>
          <p:nvPr/>
        </p:nvPicPr>
        <p:blipFill>
          <a:blip r:embed="rId3"/>
          <a:stretch/>
        </p:blipFill>
        <p:spPr>
          <a:xfrm>
            <a:off x="237960" y="6256440"/>
            <a:ext cx="331920" cy="39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R:\viestintä ja tietopalvelut\viestintä ja markkinointi\logot\EU-ohjelmien logot\LLP\Uusi_logo_2012\EU_flag_LLP_FI.bmp"/>
          <p:cNvPicPr/>
          <p:nvPr/>
        </p:nvPicPr>
        <p:blipFill>
          <a:blip r:embed="rId4"/>
          <a:stretch/>
        </p:blipFill>
        <p:spPr>
          <a:xfrm>
            <a:off x="755640" y="6281640"/>
            <a:ext cx="107964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imo.fi/ohjelmat/comenius/valmistelevat_vierailut_ja_kontaktiseminaari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trainingdatabase/search.cfm" TargetMode="External"/><Relationship Id="rId2" Type="http://schemas.openxmlformats.org/officeDocument/2006/relationships/hyperlink" Target="http://ec.europa.eu/education/trainingdatabase/search.cfm" TargetMode="External"/><Relationship Id="rId3" Type="http://schemas.openxmlformats.org/officeDocument/2006/relationships/hyperlink" Target="http://www.cimo.fi/ohjelmat/comenius/kokemuksia" TargetMode="External"/><Relationship Id="rId4" Type="http://schemas.openxmlformats.org/officeDocument/2006/relationships/hyperlink" Target="http://www.cimo.fi/ohjelmat/comenius/kokemuksia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udyvisits.cedefop.europa.e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imo.fi/ohjelmat/poikittaisohjelma/opintovierailut/opintovierailun_jarjestaminen_suomessa/hakijall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comenius" TargetMode="External"/><Relationship Id="rId3" Type="http://schemas.openxmlformats.org/officeDocument/2006/relationships/hyperlink" Target="http://www.cimo.fi/opintovierailut" TargetMode="External"/><Relationship Id="rId4" Type="http://schemas.openxmlformats.org/officeDocument/2006/relationships/hyperlink" Target="http://www.cimo.fi/opintovierailut" TargetMode="External"/><Relationship Id="rId5" Type="http://schemas.openxmlformats.org/officeDocument/2006/relationships/hyperlink" Target="http://www.cimo.fi/nordplus" TargetMode="External"/><Relationship Id="rId6" Type="http://schemas.openxmlformats.org/officeDocument/2006/relationships/hyperlink" Target="http://www.cimo.fi/nordplus" TargetMode="External"/><Relationship Id="rId7" Type="http://schemas.openxmlformats.org/officeDocument/2006/relationships/hyperlink" Target="http://www.cimo.fi/eurooppakoulussa" TargetMode="External"/><Relationship Id="rId8" Type="http://schemas.openxmlformats.org/officeDocument/2006/relationships/hyperlink" Target="http://www.cimo.fi/eurooppakoulussa" TargetMode="External"/><Relationship Id="rId9" Type="http://schemas.openxmlformats.org/officeDocument/2006/relationships/hyperlink" Target="mailto:comenius-info@cimo.fi" TargetMode="External"/><Relationship Id="rId10" Type="http://schemas.openxmlformats.org/officeDocument/2006/relationships/hyperlink" Target="mailto:etunimi.sukunimi@cimo.fi" TargetMode="External"/><Relationship Id="rId11" Type="http://schemas.openxmlformats.org/officeDocument/2006/relationships/hyperlink" Target="http://puhelinluettelo.cimo.fi/puhlu/fi/web/?name=&amp;group=15&amp;type=name&amp;resultmode=2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mo.fi/instancedata/prime_product_julkaisu/cimo/embeds/cimowwwstructure/23264_oph_KV_laatukortit_fi_LOWRESLOPUL.pdf" TargetMode="External"/><Relationship Id="rId2" Type="http://schemas.openxmlformats.org/officeDocument/2006/relationships/hyperlink" Target="http://www.cimo.fi/instancedata/prime_product_julkaisu/cimo/embeds/cimowwwstructure/15496_osaanko_uskallank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mo.fi/comenius" TargetMode="External"/><Relationship Id="rId2" Type="http://schemas.openxmlformats.org/officeDocument/2006/relationships/hyperlink" Target="http://www.cimo.fi/erasmus" TargetMode="External"/><Relationship Id="rId3" Type="http://schemas.openxmlformats.org/officeDocument/2006/relationships/hyperlink" Target="http://www.cimo.fi/leonardo" TargetMode="External"/><Relationship Id="rId4" Type="http://schemas.openxmlformats.org/officeDocument/2006/relationships/hyperlink" Target="http://www.cimo.fi/grundtvig" TargetMode="External"/><Relationship Id="rId5" Type="http://schemas.openxmlformats.org/officeDocument/2006/relationships/hyperlink" Target="http://www.cimo/opintovierailut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lifelong-learning-programme/doc1208_e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07840" y="1184040"/>
            <a:ext cx="705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Comen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2.10.2012/Koulu goes Gl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Sirkka Säikkä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cimo.fi/instancedata/prime_product_julkaisu/cimo/embeds/cimowwwstructure/dd2e5b28234778daa2375e7ba31d61e38756b659.jpg"/>
          <p:cNvPicPr/>
          <p:nvPr/>
        </p:nvPicPr>
        <p:blipFill>
          <a:blip r:embed="rId1"/>
          <a:stretch/>
        </p:blipFill>
        <p:spPr>
          <a:xfrm>
            <a:off x="1147680" y="2781360"/>
            <a:ext cx="6720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yksilöllinen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ilasliikkuvuus (I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-10kk oppilasvaih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enius koulujen yhteistyöhankkeissa mukana oleville/olle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at väh. 14 vuotta vaihdon alka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uvat perhe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2-13 mukana: NL, BE, BG, ES, SI, IT, AT, GR, HR, LV, LI, LT, LU, MT, NO, PT, PL, FR, RO, SE, FI, SK, SL, CH, DK, CZ, TR, HU,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: hallintokulut 150€/oppilas, kielivalmennus 120€/oppilas, matkat 100 %, kk-apuraha 89-249 €/kk, isäntäkoululle 500€/I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eurooppalainen vakuutus oppilailla &amp; koulu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IMO kouluttaa lähtevät, tulevat, yhteysopettajat/mento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ettävä koulu hakee – hakemus oman maan kansalliselle toimistolle   -   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Regio hankk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ueiden välistä yhteistyötä koulutuksen sektor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 – joista toinen on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2013: matka-, oleskelu-, hankekulut, henkilöstökul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kkuvuustuki kuten monenvälisissä hankke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ankekulut max. 25 000 euroa; korvaus 7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kelpoiset tahot: kunnat, kuntayhtymät ja AVIT/EL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säksi aina mukana ainakin yksi koulu sekä alueen muu toimija, esim. kirjasto, nuorisotoimi, mu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sesti määritelty teema: esim. koulutuksen ja opetuksen organisointi, koulun ja ympäröivän yhteisön yhteistyö, koulutuksen keskeiset kehittämistarpeet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 : 220 000 € - 6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valmistavat vierail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keen valmistelu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löllinen vierailu tai eurooppalainen kontaktisemina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nen hankehakemuksen jät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puraha: matkat, kulukorvaus/seminaarimak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2: 15.5., 15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kuajat 2013: 15.5., 13.9. ja 1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comenius/valmistelevat_vierailut_ja_kontaktiseminaar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 apulaisopettajaharjoittelu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tevät apulaisopettajat ja vastaanottavat kou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ksi voi hakea opettajaksi opiskeleva tai vastavalmistunut opet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oivat hakea esi- tai perusasteen oppilaitokset, lukiot ja ammatilliset oppilaito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13-45 vk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laisopettajalle: kuukausiapuraha, matkat, kielivalmen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ille: apulaisopetta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s apulaisopettajille ja vastaanottaville koul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v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rahaa lähteville apulaisopettaj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. 50 apulaisopettajaa Su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lukuvuodelle 2012-13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1.1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opetushenkilöstön täydennyskoulutusapura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087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-6-viikkoa kestävä täydennyskoulutus toisessa ohjelmaan osallistuvassa ma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hderyhmä: esi- ja peruskoulun, lukion ja ammatillisen oppilaitoksen opettajat, rehtorit/johtajat, opinto-ohjaajat ja muu opetushenkilöstö sekä opettajankoulutuslaitoksen koulutta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rssej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.europa.eu/education/trainingdatabase/search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i job shadowing (mukaan kutsu ja päiväkohtainen ohjel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685 000 € - 336 apurahaa – 68% hakijo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uoden 2013 haut päättyvä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6.1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5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30.4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9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7.9.2013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koulutus alkaen 1.1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Koulutuksen tulee alkaa viimeistään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ue kokemuksia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ohjelmat/comenius/kokemuksia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838080"/>
            <a:ext cx="8713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intovierailut koulutuksen asiantuntijo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ärjestettyjä opintovierailuja yleissivistävän ja ammatill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ulutuksen asiantuntijo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Yleissivistävän koulutuksen  kohderyhmä: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htorit, koulunjohtajat, harjoittelukoulujen opettajat, apulaisrehtorit sekä  kuntien, läänien ja valtakunnallisen tason hallintohenkilöt kuten ktj:t ja sivistystoimentarkastajat, OPH:n ja OPM:n virkamie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eemat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esim. koulutusjärjestelmät, ICT ja koulutus, opettajuus, koulunjohto, erityisoppilaiden integraatio, tasa-arvo, ohjaustoiminta j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Kesto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-5 päiv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distää tiedonvaihtoa ja keskustelua eri maiden koulutuksesta ja sen kehittämise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Hakuajat 2012: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30.3.2012 ja 12.10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uraha: n. 1200-1400 €,  kattaa matkat ja oleske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ierailuluettelo: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yvisits.cedefop.europa.eu/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pintovierailun järjestäminen Suome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ntovierailut-ohjelmaan voi osallistua myös järjestämällä opintovierailun omassa oppilaitoksess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nä voivat toimia esim. opetusalan viranomaiset, koulut, oppilaitokset, järjestöt, liitot ja yrity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ien haku päättyy 8.10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IMO valitsee vierailujen järjestäjät sekä tukee, ohjaa ja kouluttaa heitä vierailujen toteutuks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ohjelmat/poikittaisohjelma/opintovierailut/opintovierailun_jarjestaminen_suomessa/hakijall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3196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kuajat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907920"/>
          <a:ext cx="3809880" cy="52358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IUS-OHJEL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uaika päättyy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den oppilaitoksen väliset 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-hankke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.20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ksilöllinen oppilasliikkuvuu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mistelevat 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äydennyskoulutus-apurah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n vastaanottamin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ulaisopettajaharjoittelu opettajaksi opiskelevil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kitetyt hankkeet: Monenväliset hankkeet, verkostot ja täydentävät toim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572000" y="1700280"/>
          <a:ext cx="3809880" cy="44226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P POIKITTAISOHJEL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tovierail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-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 valmisteleva vierail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Horiso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plus Kieli ja kulttuuri ohjel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.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isätietoa CIM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3516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eni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intovierailut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ordplu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imo.fi/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rooppakoulussa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menius-palvelunumero: 0295 338 6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ähköposti: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enius-info@cimo.fi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tai </a:t>
            </a:r>
            <a:r>
              <a:rPr b="0" lang="fi-FI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tunimi.sukunimi@cimo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 u="sng">
                <a:solidFill>
                  <a:srgbClr val="000000"/>
                </a:solidFill>
                <a:uFillTx/>
                <a:latin typeface="Arial"/>
              </a:rPr>
              <a:t>Yhteyshenkilöt CIMO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hankkeet: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ena Högdahl, Nina Rekola, Tiina K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 Regio: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Leena Högdah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täydennyskoulutusapurahat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irkka Säikkälä, Anna Miett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Comenius- apulaisopettajaharjoittelu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Ulla Härm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Nordplus, Finland-US Young Ambassadors' Program 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na Esk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pintovierailut, Koulu Euroopassa – Eurooppa koulussa –ohjelma: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nni Leht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uhelinluettelo.cimo.fi/puhlu/fi/web/?name=&amp;group=15&amp;type=name&amp;resultmode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ppa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sainvälisen toiminnan laatusuos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mo.fi/instancedata/prime_product_julkaisu/cimo/embeds/cimowwwstructure/23264_oph_KV_laatukortit_fi_LOWRESLOPUL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anko? Uskallanko? - Tottak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imo.fi/instancedata/prime_product_julkaisu/cimo/embeds/cimowwwstructure/15496_osaanko_uskallanko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success-stories_en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creates opportunities - European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ec.europa.eu/dgs/education_culture/publ/pdf/comenius/mobility_en.pdf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ds’ Corner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ttp://europa.eu/kids-corner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ikki EU-julkaisut yhdestä osoitteesta http://bookshop.europa.e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 in figure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ttp://ec.europa.eu/education/comenius/doc/figures_en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nsainvälisen liikkuvuuden ja yhteistyön keskus C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5543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ttiin vuonna 199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i opetus- ja kulttuuriministeriön hallinnonalalla, ministeriön alaisena itsenäisenä virast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ustehtävä on edistää suomalaisen yhteiskunnan kansainvälistym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Ellipsi 4"/>
          <p:cNvGrpSpPr/>
          <p:nvPr/>
        </p:nvGrpSpPr>
        <p:grpSpPr>
          <a:xfrm>
            <a:off x="5546880" y="1736640"/>
            <a:ext cx="3450960" cy="2444760"/>
            <a:chOff x="5546880" y="1736640"/>
            <a:chExt cx="3450960" cy="2444760"/>
          </a:xfrm>
        </p:grpSpPr>
        <p:pic>
          <p:nvPicPr>
            <p:cNvPr id="54" name="Ellipsi 4" descr=""/>
            <p:cNvPicPr/>
            <p:nvPr/>
          </p:nvPicPr>
          <p:blipFill>
            <a:blip r:embed="rId1"/>
            <a:stretch/>
          </p:blipFill>
          <p:spPr>
            <a:xfrm>
              <a:off x="5546880" y="1736640"/>
              <a:ext cx="345096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75360" y="2120760"/>
              <a:ext cx="239400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n unelma on aidosti avarakatseinen Suom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Ellipsi 5"/>
          <p:cNvGrpSpPr/>
          <p:nvPr/>
        </p:nvGrpSpPr>
        <p:grpSpPr>
          <a:xfrm>
            <a:off x="4896000" y="3968640"/>
            <a:ext cx="3382920" cy="2517840"/>
            <a:chOff x="4896000" y="3968640"/>
            <a:chExt cx="3382920" cy="2517840"/>
          </a:xfrm>
        </p:grpSpPr>
        <p:pic>
          <p:nvPicPr>
            <p:cNvPr id="57" name="Ellipsi 5" descr=""/>
            <p:cNvPicPr/>
            <p:nvPr/>
          </p:nvPicPr>
          <p:blipFill>
            <a:blip r:embed="rId2"/>
            <a:stretch/>
          </p:blipFill>
          <p:spPr>
            <a:xfrm>
              <a:off x="4896000" y="3968640"/>
              <a:ext cx="33829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416560" y="4363920"/>
              <a:ext cx="234324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800" spc="-1" strike="noStrike">
                  <a:solidFill>
                    <a:srgbClr val="000000"/>
                  </a:solidFill>
                  <a:latin typeface="Arial Narrow"/>
                </a:rPr>
                <a:t>CIMO on rohkea, rikastava ja reilu kumppan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Tied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Comenius-sähköposti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lla tiedotetaan Comenius ja Nordplus Junior-ohjelm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ttyvistä asioista sekä julkaistaan ulkomaisten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tnerinhakuilmoituksia. Myös muita koulu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invälistymiseen liittyviä viestejä lähetetään lis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taan liitytään täyttämällä lomake osoitteessa https://lists.cimo.fi/mailman/listinfo/comen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tiedotus 2012, joka kk 3. tii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18.9. 15-16, ti 16.10. 15-16, ti 20.11. 15-16, ti 18.12. 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ttp://www.cimo.fi/ohjelmat/comenius/osallistujalle/tapahtumat/101/1/verkkotiedotus_2012_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Kuva1"/>
          <p:cNvPicPr/>
          <p:nvPr/>
        </p:nvPicPr>
        <p:blipFill>
          <a:blip r:embed="rId1"/>
          <a:stretch/>
        </p:blipFill>
        <p:spPr>
          <a:xfrm>
            <a:off x="687240" y="2592360"/>
            <a:ext cx="3814920" cy="20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1052640"/>
          <a:ext cx="8280360" cy="4892400"/>
        </p:xfrm>
        <a:graphic>
          <a:graphicData uri="http://schemas.openxmlformats.org/drawingml/2006/table">
            <a:tbl>
              <a:tblPr/>
              <a:tblGrid>
                <a:gridCol w="2144520"/>
                <a:gridCol w="1935360"/>
                <a:gridCol w="2387520"/>
                <a:gridCol w="181296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NIKÄISEN OPPIMISEN OHJELMA 2007-20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ni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uluope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1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asm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kea-asteen koulutus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</a:t>
                      </a: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nardo da Vinc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atill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us-, jatko- ja täydenny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2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ndtv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kuiskoulu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. 4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12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kittaisohjelmat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6 %)</a:t>
                      </a: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elinikäistä oppimista koskeva poliittinen yhteistyö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kieltenoppimise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tieto- ja viestintätekniikan edistäminen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) tulosten levittäminen ja hyödyntämin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9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an Monnet -ohjelma </a:t>
                      </a: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. 2 %)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Jean Monnet -toimi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European Institutions: toiminta-avustukset Euroopan yhdentymistä käsitteleville laitoksille </a:t>
                      </a:r>
                      <a:br>
                        <a:rPr sz="1600"/>
                      </a:b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 European Associations: toiminta-avustukset muille yleissivistävän ja ammatillisen koulutuksen aloilla toim. euroopp. laitoksille ja yhdistyksi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LP on integroitu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 yhdistää yleissivistävän koulutuksen ja ammatillisen koulutuksen ohjel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ljä sektoriohjelma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ni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mo.fi/comeni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mus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mo.fi/erasm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onardo da Vinci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imo.fi/leonar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undtvig;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imo.fi/grundtvi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kittaisohjelma: politiikkayhteistyö, kielten oppiminen, tietotekniikka, levitystoiminta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imo/opintovierail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an Monnet –ohjelma (integraatiota tukevat hankkeet, toimintatuki neljälle eurooppalaiselle laitokse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:n Elinikäisen oppimisen ohjelm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kausi  2007 – 2013 ( 7 vuot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jetti 6,9 miljardia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ikkuvuus koro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n jäsenvaltioissa (27) n. 500 milj. kansal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jelmaan osallistuu 31 ma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li 50 eri kieltä, joista 23 yhteisön virallista kiel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LLP-ohjelmaan osallistuvat 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komaat, Belgia, Espanja, Irlanti, Italia, Itävalta, Islanti, Kreikka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roatia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pros, Latvia, Liechtenstein, Liettua, Luxemburg, Malta, Norja, Portugali, Puola, Ranska, Ruotsi, Saksa, Slovakia, Slovenia, Suom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veits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ska, Tsekki, Turkki, Unkari, Viro ja Yhdistynyt kuningask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imistojen yhteystiedo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ducation/lifelong-learning-programme/doc1208_en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Comenius-ohje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ohderyhmä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oppilaitokset esikouluista toisen asteen oppilaitoksiin, kouluopetuksesta vastaavat viranomaiset sekä mm. korkea-asteen oppilaito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avo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ttaa nuoria ja opetushenkilöstöä ymmärtämään Euroopan kulttuurien ja kielten monimuotoisuutta  sekä näiden 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taa nuoria saavuttamaan henkilökohtaisen kehittymisen, työllistymisen ja Euroopan aktiivisen kansalaisuuden edellyttämät perustiedot ja tai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omen budjetti vuonna 2012 n. 4 milj.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84247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monen oppilaitoksen väliset hankkeet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ppilaskeskeiset – kehittämiskesk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 = yhteinen hanke = yhteinen hakem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äh. 3 maata/koulua, joista yksi on hanketta koordino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 vuotta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(2011)  -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 000 € (väh. 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0 000 € (väh. 8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2 liikku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4 liikku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ettajavaihto, rehtorivierailu, opettajan työpaikkaharjoitt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2 294 000 € - 128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omenius kahden oppilaitoksen väliset hankkeet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elipainotteiset hankk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teinen teema, yhteinen hanke, ”yhteinen hakem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ksi maata/koulua – joista toinen on koordinoiva ko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pimus kahdelle vuodelle (1.8.201X-31.7.201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ki kahdelle vuodelle 80 %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4 000 € (väh. 10 oppilasta+2 opettaja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 000 € (väh. 20 oppilasta+4 opettaj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uki sisältää hanke- ja liikkuvuust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kuvuusmuod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jektikokous, oppilasvaihto (10pv) - oppilaat väh. 12 vuot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011 vuosi: 358 000 € -  20 hank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emus jokaisen maan kansalliselle toimist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kuaika päättyy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21.2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13:41Z</dcterms:created>
  <dc:creator>KIR NAUSKIS</dc:creator>
  <dc:description/>
  <dc:language>en-US</dc:language>
  <cp:lastModifiedBy>temppi</cp:lastModifiedBy>
  <cp:lastPrinted>2012-01-11T09:07:46Z</cp:lastPrinted>
  <dcterms:modified xsi:type="dcterms:W3CDTF">2012-10-01T11:56:21Z</dcterms:modified>
  <cp:revision>572</cp:revision>
  <dc:subject/>
  <dc:title>PowerPoint Presentation</dc:title>
</cp:coreProperties>
</file>