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B2D0-820D-48BF-B8F9-E8F63DAF5653}" type="slidenum">
              <a:rPr b="1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Calibri"/>
              </a:rPr>
              <a:t>Uusi strategia 2020 – Suuntana aidosti avarakatseinen Suo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Yksi tulevaisuuden menestystekijöistä on ihmisen kyky avarakatseiseen elämää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aajojen kokonaisuuksien ymmärtämis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oimuutta uude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ilaisuuden näkemistä rikkaut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mien ennakkoluulojen tiedostam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almiutta olla vuorovaikutuksessa erilaisten ihmisten kanssa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ian numeron paikkamerkki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DB1-780C-4405-987F-3B2374BD97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FF99-F14F-44EA-95ED-7EC75FA35F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6760" y="4722840"/>
            <a:ext cx="5004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hjelman määrällisiä tavoitte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omenius: 1/30 koululaisista osallistuu toiminta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asmus: 3 miljoonaa opiskelijaa vuote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eonardo: kaksinkertaistetaan liikkuvuus: 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80 000 hlöä/v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Grundtvig: 2 000 aikuisopiskelijaa liikku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PPpalkki_xxxrgb"/>
          <p:cNvPicPr/>
          <p:nvPr/>
        </p:nvPicPr>
        <p:blipFill>
          <a:blip r:embed="rId2"/>
          <a:stretch/>
        </p:blipFill>
        <p:spPr>
          <a:xfrm>
            <a:off x="-1440" y="0"/>
            <a:ext cx="9145440" cy="8128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7310160" y="6381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/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"/>
          <p:cNvPicPr/>
          <p:nvPr/>
        </p:nvPicPr>
        <p:blipFill>
          <a:blip r:embed="rId3"/>
          <a:stretch/>
        </p:blipFill>
        <p:spPr>
          <a:xfrm>
            <a:off x="237960" y="6256440"/>
            <a:ext cx="331920" cy="39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R:\viestintä ja tietopalvelut\viestintä ja markkinointi\logot\EU-ohjelmien logot\LLP\Uusi_logo_2012\EU_flag_LLP_FI.bmp"/>
          <p:cNvPicPr/>
          <p:nvPr/>
        </p:nvPicPr>
        <p:blipFill>
          <a:blip r:embed="rId4"/>
          <a:stretch/>
        </p:blipFill>
        <p:spPr>
          <a:xfrm>
            <a:off x="755640" y="6281640"/>
            <a:ext cx="107964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imo.fi/ohjelmat/comenius/valmistelevat_vierailut_ja_kontaktiseminaari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trainingdatabase/search.cfm" TargetMode="External"/><Relationship Id="rId2" Type="http://schemas.openxmlformats.org/officeDocument/2006/relationships/hyperlink" Target="http://ec.europa.eu/education/trainingdatabase/search.cfm" TargetMode="External"/><Relationship Id="rId3" Type="http://schemas.openxmlformats.org/officeDocument/2006/relationships/hyperlink" Target="http://www.cimo.fi/ohjelmat/comenius/kokemuksia" TargetMode="External"/><Relationship Id="rId4" Type="http://schemas.openxmlformats.org/officeDocument/2006/relationships/hyperlink" Target="http://www.cimo.fi/ohjelmat/comenius/kokemuksia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udyvisits.cedefop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imo.fi/ohjelmat/poikittaisohjelma/opintovierailut/opintovierailun_jarjestaminen_suomessa/hakijall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comenius" TargetMode="External"/><Relationship Id="rId3" Type="http://schemas.openxmlformats.org/officeDocument/2006/relationships/hyperlink" Target="http://www.cimo.fi/opintovierailut" TargetMode="External"/><Relationship Id="rId4" Type="http://schemas.openxmlformats.org/officeDocument/2006/relationships/hyperlink" Target="http://www.cimo.fi/opintovierailut" TargetMode="External"/><Relationship Id="rId5" Type="http://schemas.openxmlformats.org/officeDocument/2006/relationships/hyperlink" Target="http://www.cimo.fi/nordplus" TargetMode="External"/><Relationship Id="rId6" Type="http://schemas.openxmlformats.org/officeDocument/2006/relationships/hyperlink" Target="http://www.cimo.fi/nordplus" TargetMode="External"/><Relationship Id="rId7" Type="http://schemas.openxmlformats.org/officeDocument/2006/relationships/hyperlink" Target="http://www.cimo.fi/eurooppakoulussa" TargetMode="External"/><Relationship Id="rId8" Type="http://schemas.openxmlformats.org/officeDocument/2006/relationships/hyperlink" Target="http://www.cimo.fi/eurooppakoulussa" TargetMode="External"/><Relationship Id="rId9" Type="http://schemas.openxmlformats.org/officeDocument/2006/relationships/hyperlink" Target="mailto:comenius-info@cimo.fi" TargetMode="External"/><Relationship Id="rId10" Type="http://schemas.openxmlformats.org/officeDocument/2006/relationships/hyperlink" Target="mailto:etunimi.sukunimi@cimo.fi" TargetMode="External"/><Relationship Id="rId11" Type="http://schemas.openxmlformats.org/officeDocument/2006/relationships/hyperlink" Target="http://puhelinluettelo.cimo.fi/puhlu/fi/web/?name=&amp;group=15&amp;type=name&amp;resultmode=2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mo.fi/instancedata/prime_product_julkaisu/cimo/embeds/cimowwwstructure/23264_oph_KV_laatukortit_fi_LOWRESLOPUL.pdf" TargetMode="External"/><Relationship Id="rId2" Type="http://schemas.openxmlformats.org/officeDocument/2006/relationships/hyperlink" Target="http://www.cimo.fi/instancedata/prime_product_julkaisu/cimo/embeds/cimowwwstructure/15496_osaanko_uskallank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erasmus" TargetMode="External"/><Relationship Id="rId3" Type="http://schemas.openxmlformats.org/officeDocument/2006/relationships/hyperlink" Target="http://www.cimo.fi/leonardo" TargetMode="External"/><Relationship Id="rId4" Type="http://schemas.openxmlformats.org/officeDocument/2006/relationships/hyperlink" Target="http://www.cimo.fi/grundtvig" TargetMode="External"/><Relationship Id="rId5" Type="http://schemas.openxmlformats.org/officeDocument/2006/relationships/hyperlink" Target="http://www.cimo/opintovierailut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lifelong-learning-programme/doc1208_e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07840" y="1184040"/>
            <a:ext cx="705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Com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2.10.2012/Koulu goes Gl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Sirkka Säikkä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cimo.fi/instancedata/prime_product_julkaisu/cimo/embeds/cimowwwstructure/dd2e5b28234778daa2375e7ba31d61e38756b659.jpg"/>
          <p:cNvPicPr/>
          <p:nvPr/>
        </p:nvPicPr>
        <p:blipFill>
          <a:blip r:embed="rId1"/>
          <a:stretch/>
        </p:blipFill>
        <p:spPr>
          <a:xfrm>
            <a:off x="1147680" y="2781360"/>
            <a:ext cx="6720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yksilöllinen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ilasliikkuvuus (I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-10kk oppilasvai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enius koulujen yhteistyöhankkeissa mukana oleville/olle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at väh. 14 vuotta vaihdon alka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uvat perhe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2-13 mukana: NL, BE, BG, ES, SI, IT, AT, GR, HR, LV, LI, LT, LU, MT, NO, PT, PL, FR, RO, SE, FI, SK, SL, CH, DK, CZ, TR, HU,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: hallintokulut 150€/oppilas, kielivalmennus 120€/oppilas, matkat 100 %, kk-apuraha 89-249 €/kk, isäntäkoululle 500€/I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eurooppalainen vakuutus oppilailla &amp; koulu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IMO kouluttaa lähtevät, tulevat, yhteysopettajat/mento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ettävä koulu hakee – hakemus oman maan kansalliselle toimistolle   -   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Regio hankk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ueiden välistä yhteistyötä koulutuksen sekto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 – joista toinen on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2013: matka-, oleskelu-, hankekulut, henkilöstökul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kkuvuustuki kuten monenvälisissä hankke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ankekulut max. 25 000 euroa; korvaus 7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kelpoiset tahot: kunnat, kuntayhtymät ja AVIT/EL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säksi aina mukana ainakin yksi koulu sekä alueen muu toimija, esim. kirjasto, nuorisotoimi, mu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sesti määritelty teema: esim. koulutuksen ja opetuksen organisointi, koulun ja ympäröivän yhteisön yhteistyö, koulutuksen keskeiset kehittämistarpeet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 : 220 000 € - 6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valmistavat vierai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keen valmistelu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löllinen vierailu tai eurooppalainen kontakti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nen hankehakemuksen jät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puraha: matkat, kulukorvaus/seminaarima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2: 15.5., 15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3: 15.5., 13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comenius/valmistelevat_vierailut_ja_kontaktiseminaar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apulaisopettajaharjoittel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tevät apulaisopettajat ja vastaanottavat kou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ksi voi hakea opettajaksi opiskeleva tai vastavalmistunut opet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ivat hakea esi- tai perusasteen oppilaitokset, lukiot ja ammatilliset oppilaito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13-45 vk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lle: kuukausiapuraha, matkat, kielivalmen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ille: apulaisopett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s apulaisopettajille ja vastaanottav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v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rahaa lähteville apulaisopettaj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laisopettajaa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lukuvuodelle 2012-13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1.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opetushenkilöstön täydennyskoulutusapura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087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-6-viikkoa kestävä täydennyskoulutus toisessa ohjelmaan osallistuvassa ma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esi- ja peruskoulun, lukion ja ammatillisen oppilaitoksen opettajat, rehtorit/johtajat, opinto-ohjaajat ja muu opetushenkilöstö sekä opettajankoulutuslaitoksen koulutta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rssej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.europa.eu/education/trainingdatabase/search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i job shadowing (mukaan kutsu ja päiväkohtainen ohjel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685 000 € - 336 apurahaa – 68% hakij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uoden 2013 haut päättyvä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6.1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5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0.4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9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7.9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1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Koulutuksen tulee alkaa viimeistään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 kokemuksi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ohjelmat/comenius/kokemuksia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83808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intovierailut koulutuksen asiantuntijo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ttyjä opintovierailuja yleissivistävän ja ammatill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ksen asiantuntijo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Yleissivistävän koulutuksen  kohderyhmä: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htorit, koulunjohtajat, harjoittelukoulujen opettajat, apulaisrehtorit sekä  kuntien, läänien ja valtakunnallisen tason hallintohenkilöt kuten ktj:t ja sivistystoimentarkastajat, OPH:n ja OPM:n virkamie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eemat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esim. koulutusjärjestelmät, ICT ja koulutus, opettajuus, koulunjohto, erityisoppilaiden integraatio, tasa-arvo, ohjaustoiminta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to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-5 päiv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istää tiedonvaihtoa ja keskustelua eri maiden koulutuksesta ja sen kehittämis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Hakuajat 2012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0.3.2012 ja 12.10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raha: n. 1200-1400 €,  kattaa matkat ja oleske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erailuluettelo: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yvisits.cedefop.europa.eu/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intovierailun järjestäminen Suome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ntovierailut-ohjelmaan voi osallistua myös järjestämällä opintovierailun omassa oppilaitoksess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nä voivat toimia esim. opetusalan viranomaiset, koulut, oppilaitokset, järjestöt, liitot ja yrity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en haku päättyy 8.10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IMO valitsee vierailujen järjestäjät sekä tukee, ohjaa ja kouluttaa heitä vierailujen tote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poikittaisohjelma/opintovierailut/opintovierailun_jarjestaminen_suomessa/hakijall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3196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kuajat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907920"/>
          <a:ext cx="3809880" cy="52358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IUS-OHJEL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uaika päättyy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d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-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.20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silöllinen oppilasliikkuvuu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mistelevat 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äydennyskoulutus-apura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n vastaanottam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harjoittelu opettajaksi opiskelevil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kitetyt hankkeet: Monenväliset hankkeet, verkostot ja täydentävät toim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0" y="1700280"/>
          <a:ext cx="3809880" cy="44226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P POIKITTAISOHJEL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to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-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 valmisteleva vierail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Horiso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Kieli ja kulttuuri 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isätietoa CIM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3516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eni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intovierailut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ordpl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rooppakouluss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enius-palvelunumero: 0295 338 6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ähköposti: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enius-info@cimo.f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tunimi.sukunimi@cimo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 u="sng">
                <a:solidFill>
                  <a:srgbClr val="000000"/>
                </a:solidFill>
                <a:uFillTx/>
                <a:latin typeface="Arial"/>
              </a:rPr>
              <a:t>Yhteyshenkilöt CIM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hankkeet: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ena Högdahl, Nina Rekola, Tiina K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 Regio: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Leena Högdah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täydennyskoulutusapurahat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Anna Miett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 apulaisopettajaharjoittelu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la Härm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Nordplus, Finland-US Young Ambassadors' Program 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na Esk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pintovierailut, Koulu Euroopassa – Eurooppa koulussa –ohjelma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nni Leht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uhelinluettelo.cimo.fi/puhlu/fi/web/?name=&amp;group=15&amp;type=name&amp;resultmode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a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sainvälisen toiminnan laatusuos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instancedata/prime_product_julkaisu/cimo/embeds/cimowwwstructure/23264_oph_KV_laatukortit_fi_LOWRESLOPU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anko? Uskallanko? - Tottak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mo.fi/instancedata/prime_product_julkaisu/cimo/embeds/cimowwwstructure/15496_osaanko_uskallanko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success-stories_en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creates opportunities - European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mobility_en.pdf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ds’ Corner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ttp://europa.eu/kids-corner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ikki EU-julkaisut yhdestä osoitteesta http://bookshop.europa.e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 in figure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ec.europa.eu/education/comenius/doc/figures_en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nsainvälisen liikkuvuuden ja yhteistyön keskus C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5543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ttiin vuonna 199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i opetus- ja kulttuuriministeriön hallinnonalalla, ministeriön alaisena itsenäisenä virast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htävä on edistää suomalaisen yhteiskunnan kansainvälisty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Ellipsi 4"/>
          <p:cNvGrpSpPr/>
          <p:nvPr/>
        </p:nvGrpSpPr>
        <p:grpSpPr>
          <a:xfrm>
            <a:off x="5546880" y="1736640"/>
            <a:ext cx="3450960" cy="2444760"/>
            <a:chOff x="5546880" y="1736640"/>
            <a:chExt cx="3450960" cy="2444760"/>
          </a:xfrm>
        </p:grpSpPr>
        <p:pic>
          <p:nvPicPr>
            <p:cNvPr id="54" name="Ellipsi 4" descr=""/>
            <p:cNvPicPr/>
            <p:nvPr/>
          </p:nvPicPr>
          <p:blipFill>
            <a:blip r:embed="rId1"/>
            <a:stretch/>
          </p:blipFill>
          <p:spPr>
            <a:xfrm>
              <a:off x="5546880" y="1736640"/>
              <a:ext cx="345096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75360" y="2120760"/>
              <a:ext cx="239400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n unelma on aidosti avarakatseinen Suom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Ellipsi 5"/>
          <p:cNvGrpSpPr/>
          <p:nvPr/>
        </p:nvGrpSpPr>
        <p:grpSpPr>
          <a:xfrm>
            <a:off x="4896000" y="3968640"/>
            <a:ext cx="3382920" cy="2517840"/>
            <a:chOff x="4896000" y="3968640"/>
            <a:chExt cx="3382920" cy="2517840"/>
          </a:xfrm>
        </p:grpSpPr>
        <p:pic>
          <p:nvPicPr>
            <p:cNvPr id="57" name="Ellipsi 5" descr=""/>
            <p:cNvPicPr/>
            <p:nvPr/>
          </p:nvPicPr>
          <p:blipFill>
            <a:blip r:embed="rId2"/>
            <a:stretch/>
          </p:blipFill>
          <p:spPr>
            <a:xfrm>
              <a:off x="4896000" y="3968640"/>
              <a:ext cx="33829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416560" y="4363920"/>
              <a:ext cx="234324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 on rohkea, rikastava ja reilu kumppan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Tie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omenius-sähköposti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lla tiedotetaan Comenius ja Nordplus Junior-ohjelm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tyvistä asioista sekä julkaistaan ulkomaisten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nerinhakuilmoituksia. Myös muita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invälistymiseen liittyviä viestejä lähetetään lis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an liitytään täyttämällä lomake osoitteessa https://lists.cimo.fi/mailman/listinfo/come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tiedotus 2012, joka kk 3. ti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18.9. 15-16, ti 16.10. 15-16, ti 20.11. 15-16, ti 18.12. 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ttp://www.cimo.fi/ohjelmat/comenius/osallistujalle/tapahtumat/101/1/verkkotiedotus_2012_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uva1"/>
          <p:cNvPicPr/>
          <p:nvPr/>
        </p:nvPicPr>
        <p:blipFill>
          <a:blip r:embed="rId1"/>
          <a:stretch/>
        </p:blipFill>
        <p:spPr>
          <a:xfrm>
            <a:off x="687240" y="2592360"/>
            <a:ext cx="3814920" cy="20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1052640"/>
          <a:ext cx="8280360" cy="4892400"/>
        </p:xfrm>
        <a:graphic>
          <a:graphicData uri="http://schemas.openxmlformats.org/drawingml/2006/table">
            <a:tbl>
              <a:tblPr/>
              <a:tblGrid>
                <a:gridCol w="2144520"/>
                <a:gridCol w="1935360"/>
                <a:gridCol w="2387520"/>
                <a:gridCol w="1812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NIKÄISEN OPPIMISEN OHJELMA 2007-20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ni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uluope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1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asm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kea-asteen koulutus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</a:t>
                      </a: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nardo da Vinc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atill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us-, jatko- ja täydenny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2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ndtv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kui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12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kittaisohjelmat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6 %)</a:t>
                      </a: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elinikäistä oppimista koskeva poliittinen yhteistyö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kieltenoppimise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tieto- ja viestintätekniika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) tulosten levittäminen ja hyödyntämi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9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an Monnet -ohjelma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2 %)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Jean Monnet -toimi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European Institutions: toiminta-avustukset Euroopan yhdentymistä käsitteleville laitoksille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 European Associations: toiminta-avustukset muille yleissivistävän ja ammatillisen koulutuksen aloilla toim. euroopp. laitoksille ja yhdistyksi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LP on integroitu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 yhdistää yleissivistävän koulutuksen ja ammatillisen koulutuksen ohjel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jä sektoriohjelma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comeni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m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mo.fi/erasm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onardo da Vinci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leona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undtvig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grundtvi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kittaisohjelma: politiikkayhteistyö, kielten oppiminen, tietotekniikka, levitystoimint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/opintovierail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an Monnet –ohjelma (integraatiota tukevat hankkeet, toimintatuki neljälle eurooppalaiselle laitoks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:n Elinikäisen oppimisen ohjelm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kausi  2007 – 2013 ( 7 vuot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jetti 6,9 miljardia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kuvuus koro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n jäsenvaltioissa (27) n. 500 milj. kansal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jelmaan osallistuu 31 ma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li 50 eri kieltä, joista 23 yhteisön virallista kiel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LP-ohjelmaan osallistuvat 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komaat, Belgia, Espanja, Irlanti, Italia, Itävalta, Islanti, Kreikka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roati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pros, Latvia, Liechtenstein, Liettua, Luxemburg, Malta, Norja, Portugali, Puola, Ranska, Ruotsi, Saksa, Slovakia, Slovenia, Suom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veits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ska, Tsekki, Turkki, Unkari, Viro ja Yhdistynyt kuningask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mistojen yhteystiedo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ducation/lifelong-learning-programme/doc1208_en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-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deryhmä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ppilaitokset esikouluista toisen asteen oppilaitoksiin, kouluopetuksesta vastaavat viranomaiset sekä mm. korkea-asteen oppilaito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taa nuoria ja opetushenkilöstöä ymmärtämään Euroopan kulttuurien ja kielten monimuotoisuutta  sekä näiden 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taa nuoria saavuttamaan henkilökohtaisen kehittymisen, työllistymisen ja Euroopan aktiivisen kansalaisuuden edellyttämät perustiedot ja tai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omen budjetti vuonna 2012 n. 4 milj.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4247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monen oppilaitoksen väliset hankkee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skeskeiset – kehittämiskesk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 = yhteinen hanke = yhteinen hakem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äh. 3 maata/koulua, joista yksi on hanketta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 vuotta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(2011)  -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000 € (väh. 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0 000 € (väh. 8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2 liikku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ettajavaihto, rehtorivierailu, opettajan työpaikkaharjoitt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2 294 000 € - 128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kahden oppilaitoksen väliset hankkeet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elipainott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, yhteinen hanke, ”yhteinen hakem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/koulua – joista toinen on koordinoiva ko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0 oppilasta+2 opetta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0 oppilasta+4 opetta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pilasvaihto (10pv) - oppilaat väh. 12 vuot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358 000 € -  20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13:41Z</dcterms:created>
  <dc:creator>KIR NAUSKIS</dc:creator>
  <dc:description/>
  <dc:language>en-US</dc:language>
  <cp:lastModifiedBy>temppi</cp:lastModifiedBy>
  <cp:lastPrinted>2012-01-11T09:07:46Z</cp:lastPrinted>
  <dcterms:modified xsi:type="dcterms:W3CDTF">2012-10-01T11:56:21Z</dcterms:modified>
  <cp:revision>572</cp:revision>
  <dc:subject/>
  <dc:title>PowerPoint Presentation</dc:title>
</cp:coreProperties>
</file>