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CD00-D2EA-4FC6-AAAE-266F18E11B88}"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3CCE-9AA7-46E2-BA99-A94C9D0DB294}"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B45D-13A7-4FE4-BD20-EE7927FFE7F3}"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7A1E-3480-47AE-B418-86AE7B30CD81}"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DCBD-BEFC-4A1D-81FB-E923F4978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3B05-5210-4E63-9679-D9DB7301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B5C8D-4353-472C-B38A-498CAE582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E0A86-A62B-483F-B696-4905F3B87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0E40-CE16-4095-9B6C-440F7881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DDD6-1865-4D56-9C5A-5F571E50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91AE-E418-41B5-BACA-38412975F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C9AD-3D66-4DBB-926C-A59561C4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7CF7-5B2B-4806-89EE-7E351C1A4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C434-46C3-4A9C-865C-ADD20F02B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65B8-7CD0-41FF-AEF7-650581C6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FB0B-1C2C-4A8D-9EA6-B9E3E444F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5958-4F68-4D6D-9F31-A535782A131E}"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FA8E-6000-42D8-8997-360657BA4A2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6D71-C303-45A4-9F28-810476D38AB7}"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9AA3-9FFF-42CB-924C-0FE6737FCD6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87A5-EA4B-4C2E-AF0D-F821E061C11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D9C6-5981-4AA6-B809-7ED9E8FE381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584A-ED20-45E9-9CC8-579B053964B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D42D-8AD1-4C9D-8D8D-6EB3CE158D52}"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EB30-888D-46FB-ADC3-BF70C24CB0C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B78B-5041-451E-AF01-165465D303D1}"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FD1C-DBB7-4A5B-8091-A49CFCD13D4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22C5-E086-4415-B011-F03CF08F6B35}"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16T09:52:33Z</dcterms:modified>
  <cp:revision>119</cp:revision>
  <dc:subject/>
  <dc:title>ERIYTTÄMINEN</dc:title>
</cp:coreProperties>
</file>