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6606-0B02-419D-8D25-5DA2B6C36FE4}"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ECD3-9C68-4332-A99B-DB04E5E5055D}"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1D5B-7C44-4344-B2DA-4568AD2DF543}"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5050-EAB9-48A1-B09F-479713D67923}"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E60AE-2F50-4E9B-8B2F-445E49D64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5900-3D73-4327-B7B4-6F0C0DDF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A897A-A50F-469B-B119-91E07EF85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B2650-B550-4D25-890A-E1EB6A513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21B4-8AC0-4DD2-A516-F65059C7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5511-0B8D-4E40-8427-0AFF9E2E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1236-2B84-4B3D-B70D-782090C7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D79FB-007B-4986-A08E-1DBAB5DE4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23A6-4D73-4A3E-A959-D2E9EE67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3693-3EE8-4116-8FCC-995EAD57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B448-6E52-4309-B35C-FDFD240F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F29C-2B23-4368-8F0A-6355E1074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98F9-347C-4D35-B899-FCF4E643A5FB}"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6149-C09E-4ED4-9E9B-8BBAD34757A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B4AC-D0C5-4D89-991D-E74A70B6A84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6AAF-DA8D-4DF4-8AB8-8845C537E15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04B4-1D8B-46A3-8D6C-5170452F011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A6C5-D5A4-49AA-B478-BD2156F66F7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F670-1925-4A05-B4BB-395DDA86B64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23F2-B36D-49E6-AA77-B7FDFBD64A3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0D5-BB50-49B7-9D51-A287EDF82DA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3B5B-5F0C-4564-BA2C-653DDB98A9C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C61E-4C5B-4D8C-9866-052ACCB8E1C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BC9E-9047-47E9-9201-D68CB1F6474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16T09:52:33Z</dcterms:modified>
  <cp:revision>119</cp:revision>
  <dc:subject/>
  <dc:title>ERIYTTÄMINEN</dc:title>
</cp:coreProperties>
</file>