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C324-BE6E-406A-A0EB-A7FDC1AC8CBD}"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2C17-5998-4998-9DA7-20CF5CCDB844}"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F62F-BE5F-4981-AB70-190FB43E6004}"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542A-C891-43BB-BA7F-C9A9409C6415}"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F95B2-C8CE-45D2-96E1-DEE309EB2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87800-3CDE-4B65-B2AB-62C35D2D4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F72E7-C2EB-4DCC-BBE0-CB4D45E1F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201C7-73F3-49A6-93E4-68CDE9B1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EFB7A-ACA7-423A-AC48-455BC6F2B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53F45-0A39-49B1-A4EC-8B144E50D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BDE1-202B-4F46-8C68-381D0B0B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50BE8-AA33-46DD-809B-D4D8E01F4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6D7B7-B53A-45B2-B566-C49504D3D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1B0A-E26E-4365-8E05-A0EB8079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31B8-67D5-43F2-B45C-957A35B51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B49F-351D-4E09-BAAC-BC1ACB2F1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B6E4-E93A-4F88-972A-9C3DBF04E69B}"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C685-3B60-445D-88F9-AAE212A395F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8CEE-54A4-4FF6-A486-52E43581B9D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71DA-CF2C-4632-9869-651BA763305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72B9-F400-49F4-9896-4FD146C5DA4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7961-A37D-46A0-9793-6415E4C0604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6FA4-8E8F-42E0-A76C-E9D8F933D8E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3375-9731-42EE-8BB7-20AEFC918E2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DE96-3E69-4F97-98F3-19126355E88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EA7B-C321-4435-B71C-9E9FE83BFA6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E617-D147-4C32-90B4-882646C5D70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F91E-14E8-4426-B5A4-9EBA60B59F5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25T12:08:44Z</dcterms:modified>
  <cp:revision>119</cp:revision>
  <dc:subject/>
  <dc:title>ERIYTTÄMINEN</dc:title>
</cp:coreProperties>
</file>